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20C-D472-4DD3-968D-5A0341C1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3AD7-EF89-4FF7-A032-8DCDCAB7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C8E-007A-4F7F-AFA6-ABDD465D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344-75ED-4B3B-8DB6-A92B8657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1E99-AC31-40CC-9166-7334C1F1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8798-CD51-4E18-9C78-A061F4AF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FE1A-8858-4680-8903-4442049C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3222-9252-4A6D-8EA1-7AC44A84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5DB9-73A6-4F23-862F-A6CF24ED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E961-CC4B-45F0-82B2-C8500428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47C1-5454-400F-B55E-856393D7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2AC-FFD3-4CC6-9733-6EFB84EB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74E6-7CFD-49D7-B128-FAA1F1C9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1FA7-2B20-4A7A-B11B-012175B9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B17A-1E6D-4518-BED5-C740B1B2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B18E-C998-4487-9A92-A848A285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E626-F0FA-449C-890C-BC20E292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BE8-5E4F-4FA0-A21D-647A434A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C2A-B1E9-4EC1-919E-EA070C90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B7D-30E1-49AF-AF61-5C1BA1C8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6CD-A08A-4AEE-9675-CAC1AABA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29B-56DD-43A6-807D-BDFB0D6D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CE6-EA67-40A3-AB0F-CA46D066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BAE-4511-4E85-A925-6B070117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ABB9-2575-40FA-9493-1BDB96F1A5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60A2-7856-469F-952B-7151FEE045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0400" y="152280"/>
          <a:ext cx="13017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52280"/>
                    <a:ext cx="13017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 (redundant mapping to protein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29000" y="426708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1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629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38680" y="4114800"/>
            <a:ext cx="0" cy="10666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41911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7080" y="1828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1981080"/>
            <a:ext cx="106704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2514600"/>
            <a:ext cx="182880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I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029200" y="2590560"/>
            <a:ext cx="0" cy="15238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251460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group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1752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=&gt;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ry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able, not stellar performance on PostGreSQL with index on  (srcfeature_id, min, max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ation of more sophisticated approaches yielded performance improvements in MySQL but not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GreSQL functions simplify queries, e.g.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select * from contains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</a:rPr>
              <a:t>src,min,max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Dogma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ew seconds for 3 levels, al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inute to include all overlapping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 rot="3675000">
            <a:off x="2955240" y="4434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295280"/>
            <a:ext cx="266688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3886200"/>
            <a:ext cx="7617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A/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411120"/>
            <a:ext cx="208080" cy="190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642960"/>
            <a:ext cx="208080" cy="19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876240"/>
            <a:ext cx="208080" cy="19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179280"/>
            <a:ext cx="208080" cy="189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0360" y="1522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0360" y="39060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0360" y="60156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0360" y="81288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rke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5400000">
            <a:off x="3336840" y="1045800"/>
            <a:ext cx="1555920" cy="1533600"/>
          </a:xfrm>
          <a:prstGeom prst="rightArrow">
            <a:avLst>
              <a:gd name="adj1" fmla="val 53880"/>
              <a:gd name="adj2" fmla="val 39361"/>
            </a:avLst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33640" y="2514600"/>
            <a:ext cx="243864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4320" y="142920"/>
            <a:ext cx="1380960" cy="92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ado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344" idx="4"/>
            <a:endCxn id="345" idx="1"/>
          </p:cNvCxnSpPr>
          <p:nvPr/>
        </p:nvCxnSpPr>
        <p:spPr>
          <a:xfrm>
            <a:off x="4571640" y="316188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83876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7" idx="2"/>
            <a:endCxn id="345" idx="0"/>
          </p:cNvCxnSpPr>
          <p:nvPr/>
        </p:nvCxnSpPr>
        <p:spPr>
          <a:xfrm>
            <a:off x="4095360" y="2101320"/>
            <a:ext cx="93420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3429000" y="1827360"/>
            <a:ext cx="13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do XML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stCxn id="342" idx="2"/>
            <a:endCxn id="347" idx="0"/>
          </p:cNvCxnSpPr>
          <p:nvPr/>
        </p:nvCxnSpPr>
        <p:spPr>
          <a:xfrm flipH="1">
            <a:off x="4095000" y="1066320"/>
            <a:ext cx="1980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50" idx="3"/>
          </p:cNvCxnSpPr>
          <p:nvPr/>
        </p:nvCxnSpPr>
        <p:spPr>
          <a:xfrm>
            <a:off x="3467160" y="316188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3086280" y="262908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>
            <a:off x="3276000" y="2101320"/>
            <a:ext cx="819720" cy="528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2" idx="2"/>
            <a:endCxn id="350" idx="0"/>
          </p:cNvCxnSpPr>
          <p:nvPr/>
        </p:nvCxnSpPr>
        <p:spPr>
          <a:xfrm flipH="1">
            <a:off x="3276360" y="1066680"/>
            <a:ext cx="838800" cy="156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1866960" y="4584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3" idx="3"/>
            <a:endCxn id="355" idx="2"/>
          </p:cNvCxnSpPr>
          <p:nvPr/>
        </p:nvCxnSpPr>
        <p:spPr>
          <a:xfrm flipV="1">
            <a:off x="2552760" y="3238200"/>
            <a:ext cx="534240" cy="172800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56" name=""/>
          <p:cNvCxnSpPr>
            <a:stCxn id="357" idx="0"/>
            <a:endCxn id="350" idx="2"/>
          </p:cNvCxnSpPr>
          <p:nvPr/>
        </p:nvCxnSpPr>
        <p:spPr>
          <a:xfrm flipH="1" flipV="1">
            <a:off x="3276360" y="3695400"/>
            <a:ext cx="83232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45" idx="2"/>
            <a:endCxn id="357" idx="0"/>
          </p:cNvCxnSpPr>
          <p:nvPr/>
        </p:nvCxnSpPr>
        <p:spPr>
          <a:xfrm flipH="1">
            <a:off x="4107960" y="3695760"/>
            <a:ext cx="921600" cy="13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endCxn id="355" idx="1"/>
          </p:cNvCxnSpPr>
          <p:nvPr/>
        </p:nvCxnSpPr>
        <p:spPr>
          <a:xfrm flipV="1">
            <a:off x="2438280" y="3161520"/>
            <a:ext cx="610560" cy="7246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60" name=""/>
          <p:cNvSpPr/>
          <p:nvPr/>
        </p:nvSpPr>
        <p:spPr>
          <a:xfrm>
            <a:off x="5638680" y="2809800"/>
            <a:ext cx="685800" cy="704880"/>
          </a:xfrm>
          <a:prstGeom prst="flowChartMagneticDisk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ad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2362320"/>
            <a:ext cx="1695600" cy="16002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B Web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grated Gene Repor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ome 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458200" y="3009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45" idx="3"/>
            <a:endCxn id="360" idx="2"/>
          </p:cNvCxnSpPr>
          <p:nvPr/>
        </p:nvCxnSpPr>
        <p:spPr>
          <a:xfrm>
            <a:off x="5219640" y="3161880"/>
            <a:ext cx="41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0" idx="4"/>
            <a:endCxn id="361" idx="1"/>
          </p:cNvCxnSpPr>
          <p:nvPr/>
        </p:nvCxnSpPr>
        <p:spPr>
          <a:xfrm>
            <a:off x="6324120" y="31618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6800760" y="4800600"/>
            <a:ext cx="1295640" cy="144792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G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ference sequen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Annotation Up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45" idx="3"/>
            <a:endCxn id="365" idx="2"/>
          </p:cNvCxnSpPr>
          <p:nvPr/>
        </p:nvCxnSpPr>
        <p:spPr>
          <a:xfrm>
            <a:off x="5219640" y="3162240"/>
            <a:ext cx="1581840" cy="2363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>
            <a:off x="6762600" y="380880"/>
            <a:ext cx="1371600" cy="10670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TP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latfile ex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ollo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stgreSQL Du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table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45" idx="3"/>
            <a:endCxn id="367" idx="1"/>
          </p:cNvCxnSpPr>
          <p:nvPr/>
        </p:nvCxnSpPr>
        <p:spPr>
          <a:xfrm flipV="1">
            <a:off x="5219640" y="914040"/>
            <a:ext cx="1543680" cy="22485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790640" y="1649520"/>
            <a:ext cx="838440" cy="838080"/>
          </a:xfrm>
          <a:prstGeom prst="flowChartMagneticDisk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m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4"/>
            <a:endCxn id="355" idx="0"/>
          </p:cNvCxnSpPr>
          <p:nvPr/>
        </p:nvCxnSpPr>
        <p:spPr>
          <a:xfrm>
            <a:off x="2629080" y="2068200"/>
            <a:ext cx="457920" cy="101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609480" y="1295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ture C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00680" y="59436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5791320"/>
            <a:ext cx="914400" cy="852480"/>
          </a:xfrm>
          <a:prstGeom prst="diamond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pe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B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dnat" descr=""/>
          <p:cNvPicPr/>
          <p:nvPr/>
        </p:nvPicPr>
        <p:blipFill>
          <a:blip r:embed="rId5"/>
          <a:stretch/>
        </p:blipFill>
        <p:spPr>
          <a:xfrm>
            <a:off x="896760" y="5851440"/>
            <a:ext cx="398520" cy="730440"/>
          </a:xfrm>
          <a:prstGeom prst="rect">
            <a:avLst/>
          </a:prstGeom>
          <a:ln w="0">
            <a:noFill/>
          </a:ln>
        </p:spPr>
      </p:pic>
      <p:cxnSp>
        <p:nvCxnSpPr>
          <p:cNvPr id="375" name=""/>
          <p:cNvCxnSpPr>
            <a:stCxn id="374" idx="3"/>
            <a:endCxn id="373" idx="1"/>
          </p:cNvCxnSpPr>
          <p:nvPr/>
        </p:nvCxnSpPr>
        <p:spPr>
          <a:xfrm>
            <a:off x="1295280" y="6216120"/>
            <a:ext cx="457920" cy="2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376" name=""/>
          <p:cNvCxnSpPr>
            <a:stCxn id="373" idx="3"/>
            <a:endCxn id="357" idx="1"/>
          </p:cNvCxnSpPr>
          <p:nvPr/>
        </p:nvCxnSpPr>
        <p:spPr>
          <a:xfrm flipV="1">
            <a:off x="2666520" y="5455440"/>
            <a:ext cx="8391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377" name=""/>
          <p:cNvGraphicFramePr/>
          <p:nvPr/>
        </p:nvGraphicFramePr>
        <p:xfrm>
          <a:off x="3990960" y="3157560"/>
          <a:ext cx="781200" cy="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0960" y="3157560"/>
                    <a:ext cx="781200" cy="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9" name=""/>
          <p:cNvCxnSpPr>
            <a:stCxn id="345" idx="2"/>
            <a:endCxn id="331" idx="0"/>
          </p:cNvCxnSpPr>
          <p:nvPr/>
        </p:nvCxnSpPr>
        <p:spPr>
          <a:xfrm flipH="1">
            <a:off x="4114440" y="3695400"/>
            <a:ext cx="91512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31" idx="0"/>
            <a:endCxn id="350" idx="2"/>
          </p:cNvCxnSpPr>
          <p:nvPr/>
        </p:nvCxnSpPr>
        <p:spPr>
          <a:xfrm flipH="1" flipV="1">
            <a:off x="3276360" y="3695040"/>
            <a:ext cx="838800" cy="19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90440" y="4762440"/>
            <a:ext cx="12193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equence Fea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rom Lit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3"/>
            <a:endCxn id="353" idx="1"/>
          </p:cNvCxnSpPr>
          <p:nvPr/>
        </p:nvCxnSpPr>
        <p:spPr>
          <a:xfrm>
            <a:off x="1409760" y="4965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3" name=""/>
          <p:cNvSpPr/>
          <p:nvPr/>
        </p:nvSpPr>
        <p:spPr>
          <a:xfrm>
            <a:off x="3390840" y="6210360"/>
            <a:ext cx="144792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 Model 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65" idx="4"/>
            <a:endCxn id="362" idx="2"/>
          </p:cNvCxnSpPr>
          <p:nvPr/>
        </p:nvCxnSpPr>
        <p:spPr>
          <a:xfrm flipV="1">
            <a:off x="8096400" y="3314520"/>
            <a:ext cx="705240" cy="22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7" idx="3"/>
            <a:endCxn id="362" idx="0"/>
          </p:cNvCxnSpPr>
          <p:nvPr/>
        </p:nvCxnSpPr>
        <p:spPr>
          <a:xfrm>
            <a:off x="8133840" y="914040"/>
            <a:ext cx="667800" cy="20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61" idx="3"/>
            <a:endCxn id="362" idx="1"/>
          </p:cNvCxnSpPr>
          <p:nvPr/>
        </p:nvCxnSpPr>
        <p:spPr>
          <a:xfrm>
            <a:off x="8248680" y="3161880"/>
            <a:ext cx="210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228600" y="5791320"/>
            <a:ext cx="9907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Ba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wissPr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457200"/>
            <a:ext cx="685800" cy="838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t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3"/>
            <a:endCxn id="355" idx="0"/>
          </p:cNvCxnSpPr>
          <p:nvPr/>
        </p:nvCxnSpPr>
        <p:spPr>
          <a:xfrm>
            <a:off x="2857320" y="1294920"/>
            <a:ext cx="229320" cy="179172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90" name=""/>
          <p:cNvSpPr/>
          <p:nvPr/>
        </p:nvSpPr>
        <p:spPr>
          <a:xfrm>
            <a:off x="0" y="1600200"/>
            <a:ext cx="1600200" cy="93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enes, Phenotyp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B Cross re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berra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Construct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ransposon insertion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3835440"/>
            <a:ext cx="990360" cy="398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nt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66960" y="365760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91" idx="3"/>
            <a:endCxn id="392" idx="1"/>
          </p:cNvCxnSpPr>
          <p:nvPr/>
        </p:nvCxnSpPr>
        <p:spPr>
          <a:xfrm>
            <a:off x="1295280" y="40381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4" name=""/>
          <p:cNvSpPr/>
          <p:nvPr/>
        </p:nvSpPr>
        <p:spPr>
          <a:xfrm>
            <a:off x="38160" y="2971800"/>
            <a:ext cx="685800" cy="380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t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76240" y="2895480"/>
            <a:ext cx="685800" cy="533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iolog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nno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6" name=""/>
          <p:cNvCxnSpPr>
            <a:stCxn id="395" idx="3"/>
            <a:endCxn id="397" idx="1"/>
          </p:cNvCxnSpPr>
          <p:nvPr/>
        </p:nvCxnSpPr>
        <p:spPr>
          <a:xfrm>
            <a:off x="1561680" y="31618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7" idx="3"/>
            <a:endCxn id="355" idx="1"/>
          </p:cNvCxnSpPr>
          <p:nvPr/>
        </p:nvCxnSpPr>
        <p:spPr>
          <a:xfrm>
            <a:off x="2552760" y="3161880"/>
            <a:ext cx="496080" cy="1080"/>
          </a:xfrm>
          <a:prstGeom prst="straightConnector1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399" name=""/>
          <p:cNvCxnSpPr>
            <a:stCxn id="390" idx="3"/>
            <a:endCxn id="369" idx="2"/>
          </p:cNvCxnSpPr>
          <p:nvPr/>
        </p:nvCxnSpPr>
        <p:spPr>
          <a:xfrm>
            <a:off x="1599840" y="2068200"/>
            <a:ext cx="19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394" idx="0"/>
            <a:endCxn id="355" idx="0"/>
          </p:cNvCxnSpPr>
          <p:nvPr/>
        </p:nvCxnSpPr>
        <p:spPr>
          <a:xfrm flipH="1" rot="16200000">
            <a:off x="1676160" y="1676160"/>
            <a:ext cx="115200" cy="2706120"/>
          </a:xfrm>
          <a:prstGeom prst="curvedConnector5">
            <a:avLst>
              <a:gd name="adj1" fmla="val -200000"/>
              <a:gd name="adj2" fmla="val 50000"/>
              <a:gd name="adj3" fmla="val -2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1866960" y="2781360"/>
            <a:ext cx="685800" cy="7621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V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not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3086280"/>
            <a:ext cx="75960" cy="152280"/>
          </a:xfrm>
          <a:prstGeom prst="hexagon">
            <a:avLst>
              <a:gd name="adj" fmla="val 25000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56000">
            <a:off x="2979360" y="3269880"/>
            <a:ext cx="11916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579000">
            <a:off x="2972880" y="2892600"/>
            <a:ext cx="119160" cy="1188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5114400">
            <a:off x="3001680" y="3085920"/>
            <a:ext cx="118800" cy="1191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73" idx="3"/>
            <a:endCxn id="401" idx="5"/>
          </p:cNvCxnSpPr>
          <p:nvPr/>
        </p:nvCxnSpPr>
        <p:spPr>
          <a:xfrm flipV="1">
            <a:off x="2666520" y="3343320"/>
            <a:ext cx="399240" cy="28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4724280" y="457200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Apollo chado  adapt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8078000">
            <a:off x="4062240" y="39387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3391200">
            <a:off x="5660640" y="4624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chadx2g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8340200">
            <a:off x="5248080" y="16099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report gen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44" idx="3"/>
            <a:endCxn id="410" idx="1"/>
          </p:cNvCxnSpPr>
          <p:nvPr/>
        </p:nvCxnSpPr>
        <p:spPr>
          <a:xfrm>
            <a:off x="4114440" y="3695400"/>
            <a:ext cx="2972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86600" y="4038480"/>
            <a:ext cx="808200" cy="68580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brow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GMO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657600" y="262908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ead-wri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690200">
            <a:off x="2195280" y="466236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4988400">
            <a:off x="2307600" y="210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cc00"/>
                </a:solidFill>
                <a:latin typeface="Times New Roman"/>
              </a:rPr>
              <a:t>gobo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505320" y="5029200"/>
            <a:ext cx="1206360" cy="853920"/>
            <a:chOff x="3505320" y="5029200"/>
            <a:chExt cx="1206360" cy="853920"/>
          </a:xfrm>
        </p:grpSpPr>
        <p:pic>
          <p:nvPicPr>
            <p:cNvPr id="414" name="" descr=""/>
            <p:cNvPicPr/>
            <p:nvPr/>
          </p:nvPicPr>
          <p:blipFill>
            <a:blip r:embed="rId10"/>
            <a:stretch/>
          </p:blipFill>
          <p:spPr>
            <a:xfrm>
              <a:off x="3505320" y="502920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3727440" y="528804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XORT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XML Object to Relational Transl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D generator: DDL -&gt;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so generates html, xml, .pl versions of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at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t connected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yntax Verification: legal XML, correct element nes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Semantic verification: NULLness, cardinality, local ID referen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nected: reference valid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oader-only: constraints, trigg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er: XML -&gt;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mper: DB -&gt; X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n by XML “dumpspec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pping XML to R-DB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1: XML is independent of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ensures modularity, freedom to change one without the other (but why would you want to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must maintain mapping when either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cy#2: XML locked to sch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: don’t have to learn two things, mapping is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: see Pro abov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4876920"/>
            <a:ext cx="8534160" cy="1904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XORT Mapp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(except primary key -- not visible in XML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ew and generic: transaction and referenc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lement n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umn within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oined table within table -- joining column is implic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reign key table within foreign key colum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module distinctions in chadoX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mitations of DT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dinality,  NULLness, data ty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685800" y="69840"/>
          <a:ext cx="7696080" cy="678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9840"/>
                    <a:ext cx="769608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bject References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How to refer to persistent objects within XML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(a.k.a. foreign key column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Unique Key Value(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 can be in XML file or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local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ly for references to objects in same XM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ed not be in 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cal ID can be any symbol - def before r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duces duplication within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y Global acc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ly only for fe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ple extension mechanism using Per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y key val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foreign_key_col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primarytable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&lt;keycol1&gt;keyval1&lt;/keycol1&gt;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    ... more key cols if needed</a:t>
            </a:r>
            <a:br>
              <a:rPr sz="1600"/>
            </a:b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    &lt;/primarytab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&lt;/foreign_key_co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featur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type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   &lt;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           &lt;cv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name&gt;Sequence Ontology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              &lt;/cv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/cv_id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           &lt;name&gt;exon&lt;/name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      &lt;/cvterm&gt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&lt;/type_i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…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       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Local I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 id=“SO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Sequence Ontology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term id=“exon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cv_id&gt;SO&lt;/cv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exon&lt;/nam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/cvterm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feature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ype_id&gt;exon&lt;/type_id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modu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6440" y="1905120"/>
            <a:ext cx="8737560" cy="3849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819520"/>
            <a:ext cx="6933960" cy="4572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 Referenc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y Global Acce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feature_relationship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subjfeature_id&gt;GB:g01234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lt;/subjfeature_id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rans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693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okup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lookup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sert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insert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le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dele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table op=“update”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val1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2&gt;val2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keycol1&gt;newval&lt;/keycol1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rce: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table op=“force”&gt;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mbination of lookup, insert and updat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XML-driven extr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behavior: given an object class and ID, dump all direct values and linktables, with refs to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default behavior specified by XML dumpspecs using same DTD with a few addi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dump= all | cols | select | n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ribute test = yes | n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sq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ment _app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around with views, _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use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gene for a gene detail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mp a scaffold for Ap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84680" y="0"/>
            <a:ext cx="449352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&lt;or&gt;CG3139&lt;/or&gt;&lt;or&gt;CG3497&lt;/or&gt;&lt;/unique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mRNA of those gene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mRNA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exo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exo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exo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get all protein of those mRNA --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&gt;protein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 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protein, type of evidence is neithor alignment_hit n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evidenc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caffold_feature dump="no_dump" /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_relationship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cvterm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ame test="no"&gt;&lt;or&gt;protein&lt;/or&gt;&lt;or&gt;exon&lt;/or&gt;&lt;/nam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cvterm&gt;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typ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 dump="all"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!-- feature_evidence for feature neither protein nor exon, type of evidence is either alignment_hit or alignment_hsp --&gt;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eature_evidence dump="no_dump"&gt;</a:t>
            </a:r>
            <a:br>
              <a:rPr sz="500"/>
            </a:b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800" y="0"/>
            <a:ext cx="8001000" cy="63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DOCTYPE chado SYSTEM "/users/zhou/work/flybase/xml/chado_stan.dtd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1. dump all information for gene CG9570 and all information for transcript, all for translation, for feature_evidence, dump all cols of foreign object:featureloc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chado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uniquename test="yes"&gt;&lt;or&gt;CG3665&lt;/or&gt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or&gt;CG3139&lt;/or&gt;&lt;or&gt;CG3497&lt;/or&gt;&lt;/uniquenam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mRNA of those genes --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_relationship dump="all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&lt;type_id&gt;mRNA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/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!-- get all exons of those mRNA --&gt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&lt;feature_relationship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subjfeature_id test="yes"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e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type_id&gt;exon&lt;/type_id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…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do &lt;-&gt; Apollo Intera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0" name=""/>
          <p:cNvSpPr/>
          <p:nvPr/>
        </p:nvSpPr>
        <p:spPr>
          <a:xfrm>
            <a:off x="3086280" y="2247840"/>
            <a:ext cx="243828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91040" y="2362320"/>
            <a:ext cx="38124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Dum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3" idx="3"/>
          </p:cNvCxnSpPr>
          <p:nvPr/>
        </p:nvCxnSpPr>
        <p:spPr>
          <a:xfrm>
            <a:off x="3619440" y="2895120"/>
            <a:ext cx="232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3238560" y="2362320"/>
            <a:ext cx="380880" cy="1066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ML Lo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+ valid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5" idx="1"/>
            <a:endCxn id="446" idx="3"/>
          </p:cNvCxnSpPr>
          <p:nvPr/>
        </p:nvCxnSpPr>
        <p:spPr>
          <a:xfrm flipH="1">
            <a:off x="4939920" y="5113080"/>
            <a:ext cx="1194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8" idx="2"/>
            <a:endCxn id="445" idx="0"/>
          </p:cNvCxnSpPr>
          <p:nvPr/>
        </p:nvCxnSpPr>
        <p:spPr>
          <a:xfrm>
            <a:off x="6514920" y="3314880"/>
            <a:ext cx="1080" cy="138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9" name=""/>
          <p:cNvSpPr/>
          <p:nvPr/>
        </p:nvSpPr>
        <p:spPr>
          <a:xfrm>
            <a:off x="1066680" y="384804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game2chad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38480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cc00"/>
                </a:solidFill>
                <a:latin typeface="Times New Roman"/>
              </a:rPr>
              <a:t>chadx2g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362320"/>
            <a:ext cx="914400" cy="1066680"/>
          </a:xfrm>
          <a:prstGeom prst="flowChartMagneticDisk">
            <a:avLst/>
          </a:prstGeom>
          <a:gradFill rotWithShape="0">
            <a:gsLst>
              <a:gs pos="0">
                <a:srgbClr val="daaeda"/>
              </a:gs>
              <a:gs pos="50000">
                <a:srgbClr val="ffccff"/>
              </a:gs>
              <a:gs pos="100000">
                <a:srgbClr val="daaed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51" idx="4"/>
            <a:endCxn id="441" idx="1"/>
          </p:cNvCxnSpPr>
          <p:nvPr/>
        </p:nvCxnSpPr>
        <p:spPr>
          <a:xfrm>
            <a:off x="4723920" y="289512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613404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41" idx="3"/>
            <a:endCxn id="448" idx="1"/>
          </p:cNvCxnSpPr>
          <p:nvPr/>
        </p:nvCxnSpPr>
        <p:spPr>
          <a:xfrm>
            <a:off x="5372280" y="289512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4" name=""/>
          <p:cNvGrpSpPr/>
          <p:nvPr/>
        </p:nvGrpSpPr>
        <p:grpSpPr>
          <a:xfrm>
            <a:off x="3733920" y="4686480"/>
            <a:ext cx="1206360" cy="853920"/>
            <a:chOff x="3733920" y="4686480"/>
            <a:chExt cx="1206360" cy="85392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3733920" y="4686480"/>
              <a:ext cx="12063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56040" y="494532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ol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600200" y="4694400"/>
            <a:ext cx="762120" cy="83808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5" idx="1"/>
            <a:endCxn id="457" idx="3"/>
          </p:cNvCxnSpPr>
          <p:nvPr/>
        </p:nvCxnSpPr>
        <p:spPr>
          <a:xfrm flipH="1">
            <a:off x="2361960" y="5113080"/>
            <a:ext cx="1372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459" name=""/>
          <p:cNvSpPr/>
          <p:nvPr/>
        </p:nvSpPr>
        <p:spPr>
          <a:xfrm>
            <a:off x="1600200" y="2476440"/>
            <a:ext cx="762120" cy="83844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7" idx="0"/>
            <a:endCxn id="459" idx="2"/>
          </p:cNvCxnSpPr>
          <p:nvPr/>
        </p:nvCxnSpPr>
        <p:spPr>
          <a:xfrm flipV="1">
            <a:off x="1980720" y="3314520"/>
            <a:ext cx="1080" cy="1380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461" name=""/>
          <p:cNvCxnSpPr>
            <a:stCxn id="459" idx="3"/>
            <a:endCxn id="443" idx="1"/>
          </p:cNvCxnSpPr>
          <p:nvPr/>
        </p:nvCxnSpPr>
        <p:spPr>
          <a:xfrm>
            <a:off x="2362320" y="2895120"/>
            <a:ext cx="8769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MPER Concer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ress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ML file s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s nex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bug Apollo / chado roundtr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V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ical que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 compli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ature relationship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ma exten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tics module - review in F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ress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I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chitectural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-permeable XML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mapping, let schema v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 for schema evolution -- schema-drive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rse-grained coupling of modules made possible by XML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nglei Zhou - loader, dumper, XML 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nk Smutniak - game2chadx, chadx2g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in Wiel - gadfly2chado migration, sch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vid Emmert - schema, mi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is Mungall, Suzi Lewis - schema, 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 Letovsky - XML/tool design, dtd gen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an Russo, Mark Z - PostGre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 Gilbert - XML custom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ott Cain - GBROWSE/Ch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n Day - schema (expres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mar Lapp - ROI query 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049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0" y="0"/>
          <a:ext cx="3894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94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0"/>
          <a:ext cx="4503600" cy="685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0"/>
                    <a:ext cx="450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553080" y="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ingle spliced transcrip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17" idx="0"/>
            <a:endCxn id="115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83544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6477120" y="4038480"/>
            <a:ext cx="761760" cy="2057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429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entral Dogma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2nd transcript (alt. Splicing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9608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038480"/>
            <a:ext cx="381024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809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200400"/>
            <a:ext cx="266688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22096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2438280"/>
            <a:ext cx="1066680" cy="0"/>
          </a:xfrm>
          <a:prstGeom prst="line">
            <a:avLst/>
          </a:prstGeom>
          <a:ln w="38160">
            <a:solidFill>
              <a:srgbClr val="00cc00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>
                <a:alpha val="2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29200" y="3200400"/>
            <a:ext cx="380880" cy="83808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86200" y="4038480"/>
            <a:ext cx="91440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419112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4038480"/>
            <a:ext cx="381240" cy="533520"/>
          </a:xfrm>
          <a:prstGeom prst="line">
            <a:avLst/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410080" y="4038480"/>
            <a:ext cx="76320" cy="60984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360" y="4038480"/>
            <a:ext cx="152388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486040" y="4038480"/>
            <a:ext cx="762120" cy="533520"/>
          </a:xfrm>
          <a:prstGeom prst="line">
            <a:avLst/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62" idx="0"/>
            <a:endCxn id="160" idx="0"/>
          </p:cNvCxnSpPr>
          <p:nvPr/>
        </p:nvCxnSpPr>
        <p:spPr>
          <a:xfrm rot="5400000">
            <a:off x="2780280" y="4286160"/>
            <a:ext cx="1067760" cy="533880"/>
          </a:xfrm>
          <a:prstGeom prst="curvedConnector5">
            <a:avLst>
              <a:gd name="adj1" fmla="val 26475"/>
              <a:gd name="adj2" fmla="val 50000"/>
              <a:gd name="adj3" fmla="val 26475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4267080" y="2514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3200400"/>
            <a:ext cx="838440" cy="2895480"/>
          </a:xfrm>
          <a:prstGeom prst="line">
            <a:avLst/>
          </a:prstGeom>
          <a:ln w="1908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/>
          <p:nvPr/>
        </p:nvCxnSpPr>
        <p:spPr>
          <a:xfrm rot="5400000">
            <a:off x="3618720" y="3314520"/>
            <a:ext cx="838800" cy="610200"/>
          </a:xfrm>
          <a:prstGeom prst="curvedConnector5">
            <a:avLst>
              <a:gd name="adj1" fmla="val 74967"/>
              <a:gd name="adj2" fmla="val 50000"/>
              <a:gd name="adj3" fmla="val 74967"/>
            </a:avLst>
          </a:prstGeom>
          <a:ln w="19080">
            <a:solidFill>
              <a:srgbClr val="00ffff">
                <a:alpha val="29000"/>
              </a:srgbClr>
            </a:solidFill>
            <a:miter/>
            <a:tailEnd len="med" type="triangle" w="med"/>
          </a:ln>
        </p:spPr>
      </p:cxnSp>
      <p:cxnSp>
        <p:nvCxnSpPr>
          <p:cNvPr id="198" name=""/>
          <p:cNvCxnSpPr/>
          <p:nvPr/>
        </p:nvCxnSpPr>
        <p:spPr>
          <a:xfrm rot="5400000">
            <a:off x="4466160" y="2466720"/>
            <a:ext cx="743760" cy="686520"/>
          </a:xfrm>
          <a:prstGeom prst="curvedConnector5">
            <a:avLst>
              <a:gd name="adj1" fmla="val 51234"/>
              <a:gd name="adj2" fmla="val 50000"/>
              <a:gd name="adj3" fmla="val 51234"/>
            </a:avLst>
          </a:prstGeom>
          <a:ln w="19080">
            <a:solidFill>
              <a:srgbClr val="00ffff">
                <a:alpha val="28000"/>
              </a:srgbClr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15000" y="2438280"/>
            <a:ext cx="228600" cy="762120"/>
          </a:xfrm>
          <a:prstGeom prst="line">
            <a:avLst/>
          </a:prstGeom>
          <a:ln w="9360">
            <a:solidFill>
              <a:srgbClr val="ffcc00">
                <a:alpha val="28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809880"/>
            <a:ext cx="2743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3809520"/>
            <a:ext cx="60984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5791320" y="3809520"/>
            <a:ext cx="30456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6629400" y="3809520"/>
            <a:ext cx="457200" cy="83844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809880"/>
            <a:ext cx="762120" cy="22860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2971800"/>
            <a:ext cx="175248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2971800"/>
            <a:ext cx="990720" cy="3124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409720" y="2971800"/>
            <a:ext cx="304920" cy="838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4120" y="2286000"/>
            <a:ext cx="914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5104800" y="2438280"/>
            <a:ext cx="6865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0" name=""/>
          <p:cNvCxnSpPr/>
          <p:nvPr/>
        </p:nvCxnSpPr>
        <p:spPr>
          <a:xfrm rot="5400000">
            <a:off x="4457160" y="3162240"/>
            <a:ext cx="838800" cy="457920"/>
          </a:xfrm>
          <a:prstGeom prst="curvedConnector5">
            <a:avLst>
              <a:gd name="adj1" fmla="val 49978"/>
              <a:gd name="adj2" fmla="val 49960"/>
              <a:gd name="adj3" fmla="val 49978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0" idx="0"/>
          </p:cNvCxnSpPr>
          <p:nvPr/>
        </p:nvCxnSpPr>
        <p:spPr>
          <a:xfrm rot="5400000">
            <a:off x="3399840" y="3961080"/>
            <a:ext cx="1276560" cy="915120"/>
          </a:xfrm>
          <a:prstGeom prst="curvedConnector5">
            <a:avLst>
              <a:gd name="adj1" fmla="val 33201"/>
              <a:gd name="adj2" fmla="val 49980"/>
              <a:gd name="adj3" fmla="val 3320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2057400" y="4343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34290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thological Cases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-splic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8120" y="5105520"/>
            <a:ext cx="449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4876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895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362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876920" y="1828800"/>
            <a:ext cx="4114800" cy="368280"/>
            <a:chOff x="4876920" y="1828800"/>
            <a:chExt cx="4114800" cy="368280"/>
          </a:xfrm>
        </p:grpSpPr>
        <p:sp>
          <p:nvSpPr>
            <p:cNvPr id="222" name=""/>
            <p:cNvSpPr/>
            <p:nvPr/>
          </p:nvSpPr>
          <p:spPr>
            <a:xfrm>
              <a:off x="7772400" y="18288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te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2057400"/>
              <a:ext cx="106668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724280" y="4572000"/>
            <a:ext cx="0" cy="15238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105160" y="5105520"/>
            <a:ext cx="228600" cy="990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4610160"/>
            <a:ext cx="533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4610160"/>
            <a:ext cx="533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4343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25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010280" y="4648320"/>
            <a:ext cx="7632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562720" y="4648320"/>
            <a:ext cx="0" cy="14475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3733920"/>
            <a:ext cx="22860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41911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72000" y="3733920"/>
            <a:ext cx="3808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5486400" y="3733920"/>
            <a:ext cx="609480" cy="91440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933960" y="3733920"/>
            <a:ext cx="15228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248520" y="3733920"/>
            <a:ext cx="304560" cy="83808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3" idx="0"/>
            <a:endCxn id="217" idx="0"/>
          </p:cNvCxnSpPr>
          <p:nvPr/>
        </p:nvCxnSpPr>
        <p:spPr>
          <a:xfrm rot="5400000">
            <a:off x="2742480" y="4019760"/>
            <a:ext cx="1372320" cy="762480"/>
          </a:xfrm>
          <a:prstGeom prst="curvedConnector5">
            <a:avLst>
              <a:gd name="adj1" fmla="val 59590"/>
              <a:gd name="adj2" fmla="val 49976"/>
              <a:gd name="adj3" fmla="val 5959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33520" y="2089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19051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lors: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</a:rPr>
              <a:t>D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ff00ff"/>
                </a:solidFill>
                <a:latin typeface="Times New Roman"/>
              </a:rPr>
              <a:t>RN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400" spc="-1" strike="noStrike">
                <a:solidFill>
                  <a:srgbClr val="00cc00"/>
                </a:solidFill>
                <a:latin typeface="Times New Roman"/>
              </a:rPr>
              <a:t>Protei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68520"/>
            <a:ext cx="38088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2286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472428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se rank to or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endCxn id="252" idx="0"/>
          </p:cNvCxnSpPr>
          <p:nvPr/>
        </p:nvCxnSpPr>
        <p:spPr>
          <a:xfrm rot="5400000">
            <a:off x="4028400" y="2676600"/>
            <a:ext cx="629280" cy="457920"/>
          </a:xfrm>
          <a:prstGeom prst="curvedConnector5">
            <a:avLst>
              <a:gd name="adj1" fmla="val 32283"/>
              <a:gd name="adj2" fmla="val 26514"/>
              <a:gd name="adj3" fmla="val 32283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253" name=""/>
          <p:cNvCxnSpPr/>
          <p:nvPr/>
        </p:nvCxnSpPr>
        <p:spPr>
          <a:xfrm rot="5400000">
            <a:off x="5142600" y="2095200"/>
            <a:ext cx="457920" cy="38196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6705720" y="3733920"/>
            <a:ext cx="53316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4495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43400" y="22096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14800" y="320040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988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373392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590920"/>
            <a:ext cx="23619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495680" y="3200400"/>
            <a:ext cx="5335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6171840" y="3200400"/>
            <a:ext cx="30492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3352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a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59" idx="0"/>
          </p:cNvCxnSpPr>
          <p:nvPr/>
        </p:nvCxnSpPr>
        <p:spPr>
          <a:xfrm flipH="1" rot="16200000">
            <a:off x="6828480" y="4314600"/>
            <a:ext cx="1353240" cy="229320"/>
          </a:xfrm>
          <a:prstGeom prst="curvedConnector5">
            <a:avLst>
              <a:gd name="adj1" fmla="val 49281"/>
              <a:gd name="adj2" fmla="val 50000"/>
              <a:gd name="adj3" fmla="val 49281"/>
            </a:avLst>
          </a:prstGeom>
          <a:ln w="1908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391520" y="40384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3505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97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ffff"/>
                </a:solidFill>
                <a:latin typeface="Times New Roman"/>
              </a:rPr>
              <a:t>produc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0920" y="3733920"/>
            <a:ext cx="685800" cy="2361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3200400"/>
            <a:ext cx="304920" cy="2895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57440" y="2590920"/>
            <a:ext cx="609480" cy="6094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590920"/>
            <a:ext cx="762120" cy="350496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irwise Align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64832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67080" y="39625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533520" y="2286000"/>
            <a:ext cx="2361960" cy="368280"/>
            <a:chOff x="533520" y="2286000"/>
            <a:chExt cx="2361960" cy="368280"/>
          </a:xfrm>
        </p:grpSpPr>
        <p:sp>
          <p:nvSpPr>
            <p:cNvPr id="280" name=""/>
            <p:cNvSpPr/>
            <p:nvPr/>
          </p:nvSpPr>
          <p:spPr>
            <a:xfrm>
              <a:off x="533520" y="2468520"/>
              <a:ext cx="380880" cy="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2286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turel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086600" y="1752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ry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0" y="1981080"/>
            <a:ext cx="251460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486400" y="1980720"/>
            <a:ext cx="0" cy="21337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6668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248520" y="1980720"/>
            <a:ext cx="1066680" cy="4115160"/>
            <a:chOff x="6248520" y="1980720"/>
            <a:chExt cx="1066680" cy="4115160"/>
          </a:xfrm>
        </p:grpSpPr>
        <p:sp>
          <p:nvSpPr>
            <p:cNvPr id="287" name=""/>
            <p:cNvSpPr/>
            <p:nvPr/>
          </p:nvSpPr>
          <p:spPr>
            <a:xfrm>
              <a:off x="6248520" y="4114800"/>
              <a:ext cx="10666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3080" y="4114800"/>
              <a:ext cx="0" cy="19810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29400" y="1980720"/>
              <a:ext cx="0" cy="2133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876920" y="1980720"/>
            <a:ext cx="2971800" cy="4115160"/>
            <a:chOff x="4876920" y="1980720"/>
            <a:chExt cx="2971800" cy="4115160"/>
          </a:xfrm>
        </p:grpSpPr>
        <p:sp>
          <p:nvSpPr>
            <p:cNvPr id="291" name=""/>
            <p:cNvSpPr/>
            <p:nvPr/>
          </p:nvSpPr>
          <p:spPr>
            <a:xfrm>
              <a:off x="4876920" y="4495680"/>
              <a:ext cx="251460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81680" y="4495680"/>
              <a:ext cx="0" cy="16002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781680" y="1980720"/>
              <a:ext cx="0" cy="2514600"/>
            </a:xfrm>
            <a:prstGeom prst="line">
              <a:avLst/>
            </a:prstGeom>
            <a:ln cap="rnd" w="28440">
              <a:solidFill>
                <a:srgbClr val="ffcc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4" name=""/>
            <p:cNvCxnSpPr/>
            <p:nvPr/>
          </p:nvCxnSpPr>
          <p:spPr>
            <a:xfrm flipH="1" flipV="1">
              <a:off x="5562000" y="4146480"/>
              <a:ext cx="610200" cy="31788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295" name=""/>
            <p:cNvCxnSpPr/>
            <p:nvPr/>
          </p:nvCxnSpPr>
          <p:spPr>
            <a:xfrm flipV="1">
              <a:off x="6095880" y="4114440"/>
              <a:ext cx="610560" cy="381600"/>
            </a:xfrm>
            <a:prstGeom prst="straightConnector1">
              <a:avLst/>
            </a:prstGeom>
            <a:ln w="12600">
              <a:solidFill>
                <a:srgbClr val="00ffff"/>
              </a:solidFill>
              <a:miter/>
              <a:tailEnd len="sm" type="triangle" w="sm"/>
            </a:ln>
          </p:spPr>
        </p:cxnSp>
        <p:sp>
          <p:nvSpPr>
            <p:cNvPr id="296" name=""/>
            <p:cNvSpPr/>
            <p:nvPr/>
          </p:nvSpPr>
          <p:spPr>
            <a:xfrm>
              <a:off x="6858000" y="419112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ffff"/>
                  </a:solidFill>
                  <a:latin typeface="Times New Roman"/>
                </a:rPr>
                <a:t>part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33520" y="2774880"/>
            <a:ext cx="38088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2590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_rela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ubj-&gt;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quence variation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NP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609588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05320" y="6095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omic Cont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47242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A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81480" y="4114800"/>
            <a:ext cx="0" cy="190512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76920" y="4114800"/>
            <a:ext cx="1066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67080" y="3886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0512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=&gt;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2819520"/>
            <a:ext cx="0" cy="12952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8680" y="3124080"/>
            <a:ext cx="1828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idue_info = “G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2743200"/>
            <a:ext cx="723888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20:41:40Z</dcterms:created>
  <dc:creator>Stan Letovsky</dc:creator>
  <dc:description/>
  <dc:language>en-US</dc:language>
  <cp:lastModifiedBy>Stan Letovsky</cp:lastModifiedBy>
  <dcterms:modified xsi:type="dcterms:W3CDTF">2003-05-02T16:54:07Z</dcterms:modified>
  <cp:revision>95</cp:revision>
  <dc:subject/>
  <dc:title>No Slide Title</dc:title>
</cp:coreProperties>
</file>